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9601-2DA0-403B-94AF-EFD772E2B97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BCA3-03A5-46E4-9D50-E85EAC414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2D54-B974-4E4F-BC4B-E73488BC6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256E-BCDC-4975-BDF3-C9E7E7B16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4166-6D10-46F4-9720-1C4154A46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1E07-D39B-418F-B4F2-0C0B8642D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C630-EC96-4CF6-9139-8849891159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F012-4324-4049-832A-DF86ABF390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6FA5-F623-4FEE-A01F-020A947DA1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3EE6-844B-4F6C-B64D-F653BB0E74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646F-37F4-4F54-A612-869B5CB431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868A5-8A21-4469-A970-BB45F061F8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D0F1-EF47-4B37-BDBB-5D8EF91A1B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CEFB-8511-4448-9EE5-076CB58E1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2949-FA34-44B0-B39E-6EB33412F6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AAC8-67B8-432B-89E7-ED1E794255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AE2E-7071-42A7-B5C5-745E5FF351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3D9B-A95C-44B9-A034-48EDD216FF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C16D-ED53-4D91-A71E-DD98D30964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2BA-E819-4983-949D-A969750AE4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5E4-0FDF-45FA-8F4B-6F74210C2E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B6C-85AB-4593-B019-D469599797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ADE-8E46-4BC1-980B-D8DBF9A731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9AA-F90B-4B45-A4D7-9F88DACE9C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1EB1-C9E2-4331-A132-9A509721E3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ABD-89FE-4B46-B9B4-0622898703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DFF-25A9-4F75-9F2C-9EB80B69A1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C3C-7D79-406C-8D2C-7C8903BE47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7F4-6643-4CA6-9741-3EEFC863C8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64C-3564-43F6-AC2D-F017A13307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F14-0303-4BC9-AF66-2B1C330476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1AA-12EC-4697-9DCB-DE57C7A1D6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A01EE-2A3A-43D6-9DEA-5CF2593019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8A1C9-767F-4D2F-8AD7-EA81F58A01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20044-13EF-46CF-AD61-D8485018B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32CD-FF8B-473C-B3F5-F3D4F0CAB3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6F201-E62E-414B-A6A2-BD3B0B5943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C7A1B-D8FB-482D-8658-F4DE35EC9F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4DFA8-9399-433E-8DE7-AA8D2062C8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518C1-BBDA-45DA-AC84-7CD32481B3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E0305-E37A-4088-A4FD-8AE6B741E8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788FE-83BA-4853-98B4-F6E1F9A500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FB2BE-19DC-4F61-BDC2-0758E19B8D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9F1E7-FDBC-4425-9FB0-F2D9287856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9ABB9-A57D-4D90-A412-6C5D9F103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7656-E164-4040-BFC1-1F2D2D1C8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85BC-D6CB-4802-B602-5A8F5F2EE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0E3F-F2EC-41A3-85BF-65276C488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B66A-7977-43BE-8BBA-8713B4A78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CC1B-F8A5-4D19-AE1A-5EE6627A2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0D1F-6FB4-4C4F-9FBB-2193F993D4B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2385-3F74-4251-827C-40D5385F723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921B-17AF-4715-BFE8-F0F2087A443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E702-5CC5-443B-88C5-12A2F87EB17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ymedina.com/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franchising.it/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E22B-D8FF-49E4-9BC8-0DA62D2E840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5562720" y="4800600"/>
            <a:ext cx="400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e46c0a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e46c0a"/>
                </a:solidFill>
                <a:latin typeface="Calibri"/>
              </a:rPr>
              <a:t>كلية </a:t>
            </a:r>
            <a:r>
              <a:rPr b="0" lang="ar-SA" sz="2400" spc="-1" strike="noStrike">
                <a:solidFill>
                  <a:srgbClr val="e46c0a"/>
                </a:solidFill>
                <a:latin typeface="Calibri"/>
              </a:rPr>
              <a:t>الآد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8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457200" y="2895480"/>
            <a:ext cx="5099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سم المقرر ورقمه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: مبادئ الإدار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أول</a:t>
            </a:r>
            <a:br>
              <a:rPr sz="2200"/>
            </a:b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0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 –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ه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د. ندير علي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0FCA-5404-48BC-A5FB-4B001204E9A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أعمال العائلية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amily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تلك الأعمال الصغيرة التي تمتلك من طرف افراد عائلة واحدة لتوفير مصدر رزق لها (محلات تجارية، صيدليات،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أعمال المنزلية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Home-Based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أعمال تمارس في المنزل ومملوكة مباشرة من قبل فرد أو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أكثر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B1BB-9C13-4C88-9848-A91FE3D3374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عايير تصنيف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F876-D3EF-4B6A-B1F9-23007D9AAC7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00120" y="1785960"/>
          <a:ext cx="7120080" cy="3627360"/>
        </p:xfrm>
        <a:graphic>
          <a:graphicData uri="http://schemas.openxmlformats.org/drawingml/2006/table">
            <a:tbl>
              <a:tblPr/>
              <a:tblGrid>
                <a:gridCol w="3560760"/>
                <a:gridCol w="355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عيار عدد العم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دول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افراد ـ 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مريك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ملكة العربية السعو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ـ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طاني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ـ 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اتحاد الاورو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اليزي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جزائ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جالات نشاط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أعمال التوزيع بكافة أشكالها (مثل تجارة الجملة والتجزئة والنقل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خدمات الأخرى غير المادية (مثل الخدمات الطبية، المطاعم، التنظيف، 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أعمال البناء (البناء، الكهرباء ،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تصنيع (مثل الحرفيين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E596-E0CC-4AA8-BFD7-30E6C2821D0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همية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خلق وظائف (في الكثير من الدول هي المحرك الاقتصادي الاساسي لخلق الوظائف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مصدر للإبداع التكنولوجي (تلعب دور كبير في تحسين وابتكار المنتجات وعمليات انتاجية جديدة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نافسة (تلعب دور ايجابي لخلق ودفع روح المنافسة في السوق وهذا يعد شيئ ايجابي للمستهلك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إشباع حاجات المجتمع وقطاع الأعمال (مثل صناعة الجواهر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BAAB-C3D0-4B5B-861C-B8154DD58A2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المبادرة عبر الانترنت و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لقد فتح الانترنت آفاقا كبيرة أمام المبادرة في إطار الأعمال، فهناك الكثير من الأعمال الناجحة التي كانت بفضل جهود عدد قليل من الأفراد (مثل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Google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،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e-Bay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 يمكنكم مراجعة موقع انترنت هذه منظمة الأعمال الصغيرة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mymedina.c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كمثال لمبادرات ناجحة في مجال الخدمات السياحة عبر الانترنت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A27A-4B9D-44F4-B3F7-BEB7386139F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سباب نجاح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فكرة جيد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خطة واضح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شجاعة وجرأة في التنفيذ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إتباع إستراتيجية إبداعية قادرة على خلق ميزات تنافسية للمشروع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تشخيص جزء من السوق الذي لم يخدم بشكل جيد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0E86-3478-4E97-B7F6-23F3E6C1A8F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سباب فشل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نقص الخبر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نقص التجرب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عدم وجود إستراتيجية واضحة لل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عدم وجود قيادة الواعية للمحيط البيئي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رقابة مالية غير كافي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قلة الالتزام بال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BB96-63C0-4098-B5A2-1AE06118332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آليات إقامة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بدء بعمل جديد تماما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شراء 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نشاط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قائم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تغيير اختصاص 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شراكة مع الآخرين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امتياز </a:t>
            </a:r>
            <a:r>
              <a:rPr b="1" lang="it-IT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ranchising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(</a:t>
            </a:r>
            <a:r>
              <a:rPr b="0" lang="it-CH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infofranchising.it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535E-C44D-41A9-8C46-90C320148F4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شخصيات ناجحة  بدأت من أعمال صغيرة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2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3189-F412-497B-9D04-4365780D238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047760" cy="2397240"/>
          </a:xfrm>
          <a:prstGeom prst="rect">
            <a:avLst/>
          </a:prstGeom>
          <a:ln w="0">
            <a:noFill/>
          </a:ln>
        </p:spPr>
      </p:pic>
      <p:sp>
        <p:nvSpPr>
          <p:cNvPr id="254" name="CasellaDiTesto 11"/>
          <p:cNvSpPr/>
          <p:nvPr/>
        </p:nvSpPr>
        <p:spPr>
          <a:xfrm>
            <a:off x="304920" y="39625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Bill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Microsoft</a:t>
            </a: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657600" cy="2386080"/>
          </a:xfrm>
          <a:prstGeom prst="rect">
            <a:avLst/>
          </a:prstGeom>
          <a:ln w="0">
            <a:noFill/>
          </a:ln>
        </p:spPr>
      </p:pic>
      <p:sp>
        <p:nvSpPr>
          <p:cNvPr id="256" name="CasellaDiTesto 5"/>
          <p:cNvSpPr/>
          <p:nvPr/>
        </p:nvSpPr>
        <p:spPr>
          <a:xfrm>
            <a:off x="5105520" y="3962520"/>
            <a:ext cx="45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Sergey Brin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 Larry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Google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61C6-BBD7-4F5B-9C55-3B355861900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743120" cy="2781360"/>
          </a:xfrm>
          <a:prstGeom prst="rect">
            <a:avLst/>
          </a:prstGeom>
          <a:ln w="0">
            <a:noFill/>
          </a:ln>
        </p:spPr>
      </p:pic>
      <p:sp>
        <p:nvSpPr>
          <p:cNvPr id="260" name="CasellaDiTesto 5"/>
          <p:cNvSpPr/>
          <p:nvPr/>
        </p:nvSpPr>
        <p:spPr>
          <a:xfrm>
            <a:off x="228600" y="43434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Enzo Ferrari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t3.gstatic.com/images?q=tbn:Ia63lG06pgZcBM:http://kingdom.com.sa/sysadmin/NewsManagment/articlefiles/280-HRH%2520Prince%2520Alwaleed%2520bin%2520Talal,%2520Apr%252009.JPG"/>
          <p:cNvPicPr/>
          <p:nvPr/>
        </p:nvPicPr>
        <p:blipFill>
          <a:blip r:embed="rId2"/>
          <a:stretch/>
        </p:blipFill>
        <p:spPr>
          <a:xfrm>
            <a:off x="6629400" y="1600200"/>
            <a:ext cx="1847880" cy="2771640"/>
          </a:xfrm>
          <a:prstGeom prst="rect">
            <a:avLst/>
          </a:prstGeom>
          <a:ln w="0">
            <a:noFill/>
          </a:ln>
        </p:spPr>
      </p:pic>
      <p:sp>
        <p:nvSpPr>
          <p:cNvPr id="262" name="CasellaDiTesto 5"/>
          <p:cNvSpPr/>
          <p:nvPr/>
        </p:nvSpPr>
        <p:spPr>
          <a:xfrm>
            <a:off x="5562720" y="44197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46c0a"/>
                </a:solidFill>
                <a:latin typeface="Arial"/>
              </a:rPr>
              <a:t>Al-Walīd bin Ṭalā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ال</a:t>
            </a: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محاضرة الثانية عشرة</a:t>
            </a: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: </a:t>
            </a:r>
            <a:br>
              <a:rPr sz="3200"/>
            </a:b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46c0a"/>
                </a:solidFill>
                <a:latin typeface="Calibri"/>
                <a:ea typeface="Calibri"/>
              </a:rPr>
              <a:t> </a:t>
            </a:r>
            <a:r>
              <a:rPr b="1" lang="ar-SA" sz="5400" spc="-1" strike="noStrike">
                <a:solidFill>
                  <a:srgbClr val="e46c0a"/>
                </a:solidFill>
                <a:latin typeface="Calibri"/>
                <a:cs typeface="Calibri"/>
              </a:rPr>
              <a:t>الريادة </a:t>
            </a:r>
            <a:br>
              <a:rPr sz="5400"/>
            </a:br>
            <a:r>
              <a:rPr b="1" lang="ar-SA" sz="5400" spc="-1" strike="noStrike">
                <a:solidFill>
                  <a:srgbClr val="e46c0a"/>
                </a:solidFill>
                <a:latin typeface="Calibri"/>
                <a:cs typeface="Calibri"/>
              </a:rPr>
              <a:t>والمشروعات الصغير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1E78-E644-43BA-9F33-D26A0FF2A9A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D109-C742-4AA3-9947-60B8AD571DF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66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376092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7" name="ZoneTexte 3"/>
          <p:cNvSpPr/>
          <p:nvPr/>
        </p:nvSpPr>
        <p:spPr>
          <a:xfrm>
            <a:off x="228600" y="16002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ت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هدف هذ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ه المحاضرة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إلى التعريف بـ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ـ مفهوم 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المبادر والريادة والمشروعات الصغيرة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46c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خصائص الشخصية المبادرة اوالرائدة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46c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 معايير تصنيف الأعمال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عنصر نائب لرقم الشريحة 4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D0C0-34DE-420E-872A-8E4360BE116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المحتوى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فهوم المبادرات الخا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خصائص الشخصية المبادر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فاهيم خاطئة عن الشخصية المباد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أنواع المبادرات الخا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عايير تصنيف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جالات نشاط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المبادرة عبر الانترنت و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أسباب نجاح وفشل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4F59-14D2-4317-ABE4-F3909DD911C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فهوم المبادرات الخاصة </a:t>
            </a:r>
            <a:r>
              <a:rPr b="1" lang="it-IT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Entrepreneurship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  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هي خصائص وسلوكات تتعلق بالابتداء بعمل والتخطيط له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وتنظيمه وتحمل  مخاطره والإبداع في إدارت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376092"/>
                </a:solidFill>
                <a:latin typeface="Times New Roman"/>
                <a:cs typeface="Times New Roman"/>
              </a:rPr>
              <a:t>المبادر</a:t>
            </a: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هو فرد يتمتع بقدرات على تحمل المخاطر ورؤية الفرص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التخطيط والإدارة الإبداعية لعمل خاص به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DC99-BF3D-4384-A4DF-EA2684604F9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خصائص الشخصية المبادرة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قدرة على التحكم الذاتي والاعتقاد بأن مصيرهم يحددونه بأنفسهم ويحبون الاستقلالي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تمتعون بطاقة عمل هائلة ويعملون بجد واجتهاد ومثابرة ورغبة بالتميز والنجاح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شعرون بالحاجة إلى تحقيق انجازات متميز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سعون وراء تحقيق أهداف فيها نسبة كبيرة من التحدي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18FC-7CC7-4D17-AA21-AD8D48CEB4E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95000" y="1523880"/>
            <a:ext cx="8915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تقبلون حالات الغموض ويتحملون المخاط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ثقة عالية بالنفس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ت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حلون بالصب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استقلالية وعدم الاتكال على الغي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قدرة على تقبل الفشل ومن ثم تصحيح الأخطاء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EA1A-BDE1-4FDC-A47A-90A8F725EC6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فاهيم خاطئة عن الشخصية المبادرة 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ولدون بموهب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بادر هو شخص مغام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ال هو مفتاح نجاح المباد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بادر هو شاب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حمل شهادة جامعي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5BB0-D989-48BD-8072-E2A8B45256E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نواع المبادرات الخاص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-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أعمال الصغيرة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mall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و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مشروع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يمتلك ويدار من قبل فرد أو أفراد معدودين وبشكل مستقل ويعمل فيه عدد قليل من العاملين ولا يهيمن بأي شكل من الأشكال على القطاع الذي ينشط فيه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إعمال الصغيرة جدا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</a:rPr>
              <a:t>Micro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أعمال توجد في مكان واحد ويعمل فيها اقل من خمسة أفراد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غالبا ما تكون أعمالا حرفي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9D68-E83B-42F1-8FA3-D614621C387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dr. nadir aliane</dc:creator>
  <dc:description/>
  <dc:language>en-US</dc:language>
  <cp:lastModifiedBy>kfu</cp:lastModifiedBy>
  <dcterms:modified xsi:type="dcterms:W3CDTF">2010-12-12T13:17:52Z</dcterms:modified>
  <cp:revision>152</cp:revision>
  <dc:subject/>
  <dc:title>Slide 1</dc:title>
</cp:coreProperties>
</file>